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D55-D33C-41B1-99A5-19365306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2D6-8E2D-4E21-B397-3326CD6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FF0-D951-482F-A261-22B3C55E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67A-BECA-46F7-B8ED-3621B099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F47-C528-4054-9EE4-9444EC3F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062-0812-4003-BB2D-225E2FC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13A-E2A7-4D8F-A6FA-9E877AEA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AAD-3F64-4186-A17E-35D8312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D12-6018-4E52-AB7E-0F4B637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CB01-0911-404B-84EC-288E1AD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6189-6F20-4BD2-91F4-3FAD66B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F0E-46BE-4B22-9EAD-BC4BB79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A478-1B38-470A-94A2-AF687CE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2FE-6C52-4470-8842-7A2C0E83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EAD2-E196-4A5F-BCD9-EDBD14C0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7A6-6F0D-40A4-80D1-6D248B77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38AE-D40B-4FC6-A32A-619D8000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2C9-9E42-4187-A8BF-C66AB441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6B7-E7A9-4E7D-93A8-ACD0B301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F14-8FCB-4A96-90EB-B1C7D34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95F-6DDF-444E-AA04-3417C761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1CF-A30C-4F20-B99C-BF9362B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6FA-84A1-4517-BE7D-B0D7DB5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A9C-CB97-446C-88C0-E193E6B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EE1-7B6F-4214-BBFA-C491E906E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80EC-C627-4338-814A-B0189F154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sa.colorado.edu/summarystreet/texts/hydropower.htm" TargetMode="External"/><Relationship Id="rId2" Type="http://schemas.openxmlformats.org/officeDocument/2006/relationships/hyperlink" Target="http://ga.water.usgs.gov/edu/hyhowworks.html" TargetMode="External"/><Relationship Id="rId3" Type="http://schemas.openxmlformats.org/officeDocument/2006/relationships/hyperlink" Target="http://www1.agric.gov.ab.ca/$department/deptdocs.nsf/all/eng4431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0281800">
            <a:off x="2054160" y="1371600"/>
            <a:ext cx="601992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ydroelectric 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6576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733920"/>
            <a:ext cx="5943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ffanie Thorn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droelectric Power Diagram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Animation of a hydroelectric power plant in a dam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ydro plant uses the force of falling water to make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hydro plant is a system with three pa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pl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the electricity is produc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can be opened or closed to control water fl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o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water can be sto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it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get water from electric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source is used to turn a propeller piece called a turb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turns a metal shaft called the electric gener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called the motor which produces electric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enerator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Drawing of a turbine, which the water turns. "/>
          <p:cNvPicPr/>
          <p:nvPr/>
        </p:nvPicPr>
        <p:blipFill>
          <a:blip r:embed="rId1"/>
          <a:stretch/>
        </p:blipFill>
        <p:spPr>
          <a:xfrm>
            <a:off x="1066680" y="1442880"/>
            <a:ext cx="74678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the Generator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aulic turbine converts the energy of flowing water into mechanical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ydroelectric generator converts this mechanical energy into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st effects/ Environmental effect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ic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to desig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apital cost but maintenance costs are only minim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Eff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 over fossil fueled generator pl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ewab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lsa.colorado.edu/summarystreet/texts/hydropowe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ga.water.usgs.gov/edu/hyhowwork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1.agric.gov.ab.ca/$department/deptdocs.nsf/all/eng44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4:54:26Z</dcterms:created>
  <dc:creator>tthornto</dc:creator>
  <dc:description/>
  <dc:language>en-US</dc:language>
  <cp:lastModifiedBy>tthornto</cp:lastModifiedBy>
  <dcterms:modified xsi:type="dcterms:W3CDTF">2009-12-30T16:07:49Z</dcterms:modified>
  <cp:revision>2</cp:revision>
  <dc:subject/>
  <dc:title>Slide 1</dc:title>
</cp:coreProperties>
</file>